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5.jpeg" ContentType="image/jpeg"/>
  <Override PartName="/ppt/media/image8.jpeg" ContentType="image/jpeg"/>
  <Override PartName="/ppt/media/image4.png" ContentType="image/png"/>
  <Override PartName="/ppt/media/image13.png" ContentType="image/png"/>
  <Override PartName="/ppt/media/image12.png" ContentType="image/png"/>
  <Override PartName="/ppt/media/image11.wmf" ContentType="image/x-wmf"/>
  <Override PartName="/ppt/media/image10.wmf" ContentType="image/x-wmf"/>
  <Override PartName="/ppt/media/camera.wav" ContentType="audio/x-wav"/>
  <Override PartName="/ppt/media/image7.jpeg" ContentType="image/jpeg"/>
  <Override PartName="/ppt/media/image9.png" ContentType="image/png"/>
  <Override PartName="/ppt/media/projctor.wav" ContentType="audio/x-wav"/>
  <Override PartName="/ppt/media/image1.png" ContentType="image/png"/>
  <Override PartName="/ppt/media/indian%20music.wav" ContentType="audio/x-wav"/>
  <Override PartName="/ppt/media/image3.jpeg" ContentType="image/jpeg"/>
  <Override PartName="/ppt/media/drumroll.wav" ContentType="audio/x-wav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7E7B5-B675-4634-8240-DB34A43DE3C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ve Americ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Cul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ed on Great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Ceremon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Fam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Tep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 Path Cus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ief in Spiri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bes of the Plains Indi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ko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yen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ou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an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fe on the Pl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ce of the Buff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gious Belie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ins Indians believe in many go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s show themselves in the form of moon, stars, animals or stro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y a man receives power from the gods is through a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ian that sees many visions is the Medicine M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wow is the celebration or prayer to the Great Spir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Home P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CB69-01B4-44DF-8C3D-64B4A1D91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76C-0A8F-47C0-954E-2D1CEC71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3091-F044-4E2E-A466-1E832EDF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0E4-BEF5-458A-AD72-0FDBABBE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151A-6344-422B-B7FA-C3DDA531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1620-C711-48F3-AEF9-869370FB9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28E-25C4-4553-83D1-1C3C3792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1659-511D-45DE-9508-049C3D8D9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E4F-7F3A-4AA9-B690-DC8B9FA1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7C01-440E-4B5F-A56A-28D37E875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9FE0-5919-4876-BC17-75352604D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A30-362A-479B-88DC-F8088E60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936E3-9B20-4708-9A53-315CD1E5B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indian%20music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drumroll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projcto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audio" Target="../media/drumroll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png"/><Relationship Id="rId3" Type="http://schemas.openxmlformats.org/officeDocument/2006/relationships/hyperlink" Target="http://teachers.k12.sd.us/JL016" TargetMode="External"/><Relationship Id="rId4" Type="http://schemas.openxmlformats.org/officeDocument/2006/relationships/audio" Target="../media/indian%20music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50000">
              <a:srgbClr val="ff6600"/>
            </a:gs>
            <a:gs pos="100000">
              <a:srgbClr val="ff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entury Gothic"/>
              </a:rPr>
              <a:t>Native American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eople of th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indian music.wav" descr=""/>
          <p:cNvPicPr/>
          <p:nvPr/>
        </p:nvPicPr>
        <p:blipFill>
          <a:blip r:embed="rId1"/>
          <a:stretch/>
        </p:blipFill>
        <p:spPr>
          <a:xfrm>
            <a:off x="457200" y="61722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  <p:sndAc>
      <p:stSnd>
        <p:snd r:embed="rId2" name="indian%20music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3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Plains Cul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ved on Great Pl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llow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ligious Ceremo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ortance of Fam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of Tep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r Path Cust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lief in Spirits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6" descr="F:\USERS\LARSON\Pictures\Lacota Sioux.jpg"/>
          <p:cNvPicPr/>
          <p:nvPr/>
        </p:nvPicPr>
        <p:blipFill>
          <a:blip r:embed="rId1"/>
          <a:stretch/>
        </p:blipFill>
        <p:spPr>
          <a:xfrm>
            <a:off x="4648320" y="2473200"/>
            <a:ext cx="3809880" cy="3130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66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eorgia"/>
              </a:rPr>
              <a:t>Tribes of the Plains India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Dako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heyen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Siou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omanch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9" descr="F:\USERS\LARSON\Pictures\compic1[1].jpg"/>
          <p:cNvPicPr/>
          <p:nvPr/>
        </p:nvPicPr>
        <p:blipFill>
          <a:blip r:embed="rId1"/>
          <a:stretch/>
        </p:blipFill>
        <p:spPr>
          <a:xfrm>
            <a:off x="995400" y="1981080"/>
            <a:ext cx="319068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50000">
              <a:srgbClr val="ff99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685800" y="609480"/>
            <a:ext cx="6781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Georgia"/>
              </a:rPr>
              <a:t>Life on the Pl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4" descr="F:\USERS\LARSON\Pictures\tipi[1].gif"/>
          <p:cNvPicPr/>
          <p:nvPr/>
        </p:nvPicPr>
        <p:blipFill>
          <a:blip r:embed="rId1"/>
          <a:stretch/>
        </p:blipFill>
        <p:spPr>
          <a:xfrm>
            <a:off x="457200" y="609480"/>
            <a:ext cx="1406520" cy="1965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F:\USERS\LARSON\Pictures\buffalohlunt[1].jpg"/>
          <p:cNvPicPr/>
          <p:nvPr/>
        </p:nvPicPr>
        <p:blipFill>
          <a:blip r:embed="rId2"/>
          <a:stretch/>
        </p:blipFill>
        <p:spPr>
          <a:xfrm>
            <a:off x="3505320" y="1447920"/>
            <a:ext cx="2209680" cy="185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F:\USERS\LARSON\Pictures\travois[1].jpg"/>
          <p:cNvPicPr/>
          <p:nvPr/>
        </p:nvPicPr>
        <p:blipFill>
          <a:blip r:embed="rId3"/>
          <a:stretch/>
        </p:blipFill>
        <p:spPr>
          <a:xfrm>
            <a:off x="457200" y="3886200"/>
            <a:ext cx="3962520" cy="2162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F:\USERS\LARSON\Pictures\Meat[1].jpg"/>
          <p:cNvPicPr/>
          <p:nvPr/>
        </p:nvPicPr>
        <p:blipFill>
          <a:blip r:embed="rId4"/>
          <a:stretch/>
        </p:blipFill>
        <p:spPr>
          <a:xfrm>
            <a:off x="7010280" y="762120"/>
            <a:ext cx="1616040" cy="2133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F:\USERS\LARSON\Pictures\ghostpic5[1].jpg"/>
          <p:cNvPicPr/>
          <p:nvPr/>
        </p:nvPicPr>
        <p:blipFill>
          <a:blip r:embed="rId5"/>
          <a:stretch/>
        </p:blipFill>
        <p:spPr>
          <a:xfrm>
            <a:off x="5638680" y="3962520"/>
            <a:ext cx="2971800" cy="21477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9"/>
          <p:cNvSpPr/>
          <p:nvPr/>
        </p:nvSpPr>
        <p:spPr>
          <a:xfrm>
            <a:off x="212760" y="2708280"/>
            <a:ext cx="192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pee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3352680" y="335268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uffalo H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2"/>
          <p:cNvSpPr/>
          <p:nvPr/>
        </p:nvSpPr>
        <p:spPr>
          <a:xfrm>
            <a:off x="670572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ying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228600" y="617220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ing the Village with the Buff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029200" y="617220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wow D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Importance of the Buffa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des used for clothing and tep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esh meat eaten as stews and sau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at dried in the sun for future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rns used for spoons, cups, and to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nes used for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stines and stomachs used for water sto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ls used for whips and sewing threa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4" descr="A:\Buffalo 06.wmf"/>
          <p:cNvPicPr/>
          <p:nvPr/>
        </p:nvPicPr>
        <p:blipFill>
          <a:blip r:embed="rId2"/>
          <a:stretch/>
        </p:blipFill>
        <p:spPr>
          <a:xfrm>
            <a:off x="304920" y="457200"/>
            <a:ext cx="1573200" cy="118908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8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Monotype Corsiva"/>
              </a:rPr>
              <a:t>Religious Belief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lains Indians believe in many g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ds show themselves in the form of moon, stars, animals or stro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way a man receives power from the gods is through a 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dian that sees many visions is the Medicine 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wwow is the celebration or prayer to the Great Spir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" descr="A:\Native American - Dancer 3.tif"/>
          <p:cNvPicPr/>
          <p:nvPr/>
        </p:nvPicPr>
        <p:blipFill>
          <a:blip r:embed="rId2"/>
          <a:stretch/>
        </p:blipFill>
        <p:spPr>
          <a:xfrm>
            <a:off x="838080" y="380880"/>
            <a:ext cx="1176480" cy="16002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4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99"/>
            </a:gs>
            <a:gs pos="100000">
              <a:srgbClr val="cc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F:\USERS\LARSON\Pictures\TP village.gif"/>
          <p:cNvPicPr/>
          <p:nvPr/>
        </p:nvPicPr>
        <p:blipFill>
          <a:blip r:embed="rId1"/>
          <a:stretch/>
        </p:blipFill>
        <p:spPr>
          <a:xfrm>
            <a:off x="609480" y="533520"/>
            <a:ext cx="7932960" cy="5627520"/>
          </a:xfrm>
          <a:prstGeom prst="rect">
            <a:avLst/>
          </a:prstGeom>
          <a:ln w="0">
            <a:noFill/>
          </a:ln>
        </p:spPr>
      </p:pic>
      <p:pic>
        <p:nvPicPr>
          <p:cNvPr id="81" name="indian music.wav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914400" y="4572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cript MT Bold"/>
              </a:rPr>
              <a:t>The En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812600" y="5985000"/>
            <a:ext cx="281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3"/>
              </a:rPr>
              <a:t>Return to Home P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indian%20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4T21:43:35Z</dcterms:created>
  <dc:creator>LIN224</dc:creator>
  <dc:description/>
  <dc:language>en-US</dc:language>
  <cp:lastModifiedBy>Legion</cp:lastModifiedBy>
  <dcterms:modified xsi:type="dcterms:W3CDTF">2017-07-05T12:17:37Z</dcterms:modified>
  <cp:revision>13</cp:revision>
  <dc:subject/>
  <dc:title>Native Americans</dc:title>
</cp:coreProperties>
</file>